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59-8DFA-452C-954F-856F3313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896-2E10-4A13-91BD-56C84A8F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528B-C7FF-4EA6-A060-53B6A322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A008-3F86-42F5-A803-90DDA6D7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6BAD-BF1C-40CE-B8A3-6294DE56E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6293-2035-4055-B1AD-B77123B4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8F16-9AD4-4FFB-B94B-BC2E4579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1888-B992-440C-B556-C884A2AC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7B65-0E2C-4B9A-A77C-3C00B1CB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3C8F-A9DC-4018-8EF2-2168FEE4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867C-FCC6-45C2-8569-57DFB2E3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B8BD-608E-4013-9348-1BE31715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111F-6AE5-4635-AA3F-DAA6041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F8225-38F9-42C7-B2A1-311B836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EA55-1662-43C5-AC76-1E9A32FC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27A2-21FA-443B-9B14-63EAE79C1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BB22-D7FB-48A7-98D6-7BB4890B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3961-AB08-4AA7-A149-1E47EA7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595-27F6-4C94-93D9-0489E91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648-5D9B-453A-8A3E-C29456A0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0187-025B-4D8A-A943-B0036E3F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8C5-897C-42C7-8BEC-3CF5374C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AFD-C527-414A-A950-0E5EABCB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9F5-4802-4F8E-BCF7-C2429ED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4CB4-A85E-4C93-ADE3-238DBD9A5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03B9-0E10-418C-A7C1-B13B3C129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c-online.com/objects/index_tj.asp?objID=AP11203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isc-online.com/objects/index_tj.asp?objID=AP11103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ssive vs.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cytosis - large molecules exit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Active Transport Ani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520"/>
            <a:ext cx="8163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Arial"/>
              </a:rPr>
              <a:t>The End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require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substances from higher to low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usion - movement of any type of particle from high concentration to low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smosis - movement of water across a selectively permeable membrane from higher to lower concent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Pass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ated Diffusion - movement of molecules  across a cell membrane with the help of transport proteins (faster than regular diffu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Facilitated Diffusion Anima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substances from lower concentration to higher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transport (general) - substances move from lower to higher concentration {against the concentration gradient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cytosis - large molecules are taken into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hagocytosis = solids taken in “e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inocytosis = liquids taken in “drin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5:23:24Z</dcterms:created>
  <dc:creator>Clayton Johns</dc:creator>
  <dc:description/>
  <dc:language>en-US</dc:language>
  <cp:lastModifiedBy>Clayton Johns</cp:lastModifiedBy>
  <dcterms:modified xsi:type="dcterms:W3CDTF">2009-12-22T15:13:34Z</dcterms:modified>
  <cp:revision>6</cp:revision>
  <dc:subject/>
  <dc:title>Passive vs. Active Transport</dc:title>
</cp:coreProperties>
</file>